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3B1-0C50-4CC4-9A0E-CAEAA483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4A3-F42D-4F0F-B1B3-E4F8EC0F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AFB-8EFD-4CD4-8391-B3727334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D5C-E484-41FB-B0AC-636AA3C1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1C6-48EC-491D-9133-96065013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9D4-77F1-458C-83FB-AB29D92B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0CB-29AB-4F8B-AE81-6CBA1FBE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EC7-DEC1-48BE-BBA1-35CD844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25B-D570-4C89-A8CC-61AEB861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B67-7A4F-46E6-9BF0-C1B85479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AB5-995D-4EF6-AA07-14B0887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186-DDD9-49F1-AE5C-67468E2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883E-29E9-4C01-81AE-AEBFD61D8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Match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4876560" cy="633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5638680"/>
            <a:ext cx="1371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38880" y="56386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0516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510516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5105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32:58Z</dcterms:modified>
  <cp:revision>43</cp:revision>
  <dc:subject/>
  <dc:title>PowerPoint Presentation</dc:title>
</cp:coreProperties>
</file>